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582-C188-4A04-8956-4033299C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DA6-D7D6-4DA2-B5E1-0E2B0919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81C-2E84-4370-9298-4C6D4498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E6B-D360-4B0D-8E79-272A5DA7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DE1-793D-4437-8D20-F3DDA737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3C6-DD8B-4EA7-8E28-2675FBD6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B19-9247-4F9E-8CA5-59921F81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353-A7C9-485A-AEE9-7B249943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C30-8111-4E72-8383-D8FAFA94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8DE-5C20-4821-83C1-5387A595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230-7530-4FFF-88DD-D4547B23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18B-EC1F-435F-AAA1-1DE26E8C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43DE-500E-4E02-9EC7-962B4B713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-231840" y="268200"/>
            <a:ext cx="9455040" cy="5199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goldfish"/>
          <p:cNvPicPr/>
          <p:nvPr/>
        </p:nvPicPr>
        <p:blipFill>
          <a:blip r:embed="rId3"/>
          <a:stretch/>
        </p:blipFill>
        <p:spPr>
          <a:xfrm>
            <a:off x="1371600" y="5791320"/>
            <a:ext cx="99072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star fish"/>
          <p:cNvPicPr/>
          <p:nvPr/>
        </p:nvPicPr>
        <p:blipFill>
          <a:blip r:embed="rId4"/>
          <a:stretch/>
        </p:blipFill>
        <p:spPr>
          <a:xfrm>
            <a:off x="6248520" y="2971800"/>
            <a:ext cx="95256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Octpus"/>
          <p:cNvPicPr/>
          <p:nvPr/>
        </p:nvPicPr>
        <p:blipFill>
          <a:blip r:embed="rId5"/>
          <a:stretch/>
        </p:blipFill>
        <p:spPr>
          <a:xfrm>
            <a:off x="5257800" y="5286240"/>
            <a:ext cx="2457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0-3 &amp; 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eo Terms Test -2 next block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0" y="990720"/>
            <a:ext cx="4572000" cy="286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10-3 &amp; 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mountain created as liquid rock and ash erupt from the inside the ear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place called where a river begi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large area of flat lan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ol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1295280" y="26668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6"/>
          <p:cNvSpPr/>
          <p:nvPr/>
        </p:nvSpPr>
        <p:spPr>
          <a:xfrm>
            <a:off x="312408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http://j-foto.com/images/41900_1eebha_m.jpg"/>
          <p:cNvPicPr/>
          <p:nvPr/>
        </p:nvPicPr>
        <p:blipFill>
          <a:blip r:embed="rId1"/>
          <a:srcRect l="0" t="0" r="0" b="38711"/>
          <a:stretch/>
        </p:blipFill>
        <p:spPr>
          <a:xfrm>
            <a:off x="4572000" y="335268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ttp://www.kidcyber.com.au/IMAGES/volcanoXjup1.jpg"/>
          <p:cNvPicPr/>
          <p:nvPr/>
        </p:nvPicPr>
        <p:blipFill>
          <a:blip r:embed="rId2"/>
          <a:srcRect l="0" t="8348" r="0" b="0"/>
          <a:stretch/>
        </p:blipFill>
        <p:spPr>
          <a:xfrm>
            <a:off x="0" y="3627360"/>
            <a:ext cx="4572000" cy="323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inkido.indiana.edu/w310work/romac/Pmap.gif"/>
          <p:cNvPicPr/>
          <p:nvPr/>
        </p:nvPicPr>
        <p:blipFill>
          <a:blip r:embed="rId3"/>
          <a:srcRect l="0" t="7915" r="0" b="5012"/>
          <a:stretch/>
        </p:blipFill>
        <p:spPr>
          <a:xfrm>
            <a:off x="4572000" y="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10-02T19:09:05Z</dcterms:modified>
  <cp:revision>112</cp:revision>
  <dc:subject/>
  <dc:title>Slide 1</dc:title>
</cp:coreProperties>
</file>